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79972"/>
        <c:axId val="16858067"/>
      </c:barChart>
      <c:catAx>
        <c:axId val="16279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58067"/>
        <c:crosses val="autoZero"/>
        <c:auto val="1"/>
        <c:lblAlgn val="ctr"/>
        <c:lblOffset val="100"/>
        <c:noMultiLvlLbl val="0"/>
      </c:catAx>
      <c:valAx>
        <c:axId val="16858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79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3CD-1141-42D3-BEE3-DBFAE6B8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104-EB0F-4B0C-8585-7D48FC74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6F1-46BB-4596-868B-BA62C006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F34-3237-4CF0-B5BA-4AFD4215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43B-F0FC-410A-9161-384E9406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E41-B51E-4DEE-B781-FEB75C6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936-9075-48F8-B1F2-6C17597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D07-811C-4132-9EB5-DAA71329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A2C-9E15-4476-ABF0-40EDF1D8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32D-87B5-44A9-AEBB-34C02D9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D21-1DDF-4F5A-A9B9-B620BF7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34D-9C1B-4AD6-81F9-ABF98EE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7A5DC-2097-4F78-B245-CDFC91ED8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