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74524"/>
        <c:axId val="84591780"/>
      </c:barChart>
      <c:catAx>
        <c:axId val="95574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1780"/>
        <c:crosses val="autoZero"/>
        <c:auto val="1"/>
        <c:lblAlgn val="ctr"/>
        <c:lblOffset val="100"/>
        <c:noMultiLvlLbl val="0"/>
      </c:catAx>
      <c:valAx>
        <c:axId val="84591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74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B71-7630-46C6-914C-D3E6E668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0FC-0AAC-4C7F-B6B5-6AFD598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14B-A70F-4CB3-B987-92533360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CA5-E4A8-4ABF-8D8F-48BA8B99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A6D-739C-4E2B-9945-1696E3F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9DF-6527-4548-85C2-3E3ACA8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6E9-1A51-4F55-8458-16D8FAC0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7FA-2501-4F1D-A179-EC10BE9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84F-F090-46A6-83C5-2D36BA77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1E8-0B69-4BE2-9657-DA1CE29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0CB-D400-4498-87C0-00F95E4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3BC-1245-489D-BE1F-3DDC117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EDAE-6E07-4659-A64B-74A203A713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